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A8AC-8079-44FF-863E-55361BD3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82E-7960-41FF-8557-467746C7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959F-C96B-48C8-94E3-25C4FC6A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E90B-45F5-4C2E-B74F-216D07A6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C5A-C315-43A3-95E0-BCF7F7DD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E5B-D11B-4657-8208-F592FF69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3BE8-CA83-42AB-8391-B95F260A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ABC-6F06-472C-8331-23B88D50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128E-A891-49B9-8F18-1DF46DFE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58B0-256C-4821-9186-2B43A0F7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6D54-51A6-4C49-A524-EEF91089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7259-96EE-43AD-AEA4-4D255C67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4E38-FA11-440B-BE42-7F3BC1AAD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4.xml"/><Relationship Id="rId10" Type="http://schemas.openxmlformats.org/officeDocument/2006/relationships/slide" Target="slide18.xml"/><Relationship Id="rId11" Type="http://schemas.openxmlformats.org/officeDocument/2006/relationships/slide" Target="slide3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9.xml"/><Relationship Id="rId17" Type="http://schemas.openxmlformats.org/officeDocument/2006/relationships/slide" Target="slide17.xml"/><Relationship Id="rId18" Type="http://schemas.openxmlformats.org/officeDocument/2006/relationships/slide" Target="slide8.xml"/><Relationship Id="rId19" Type="http://schemas.openxmlformats.org/officeDocument/2006/relationships/slide" Target="slide7.xml"/><Relationship Id="rId20" Type="http://schemas.openxmlformats.org/officeDocument/2006/relationships/slide" Target="slide6.xml"/><Relationship Id="rId21" Type="http://schemas.openxmlformats.org/officeDocument/2006/relationships/slide" Target="slide19.xml"/><Relationship Id="rId22" Type="http://schemas.openxmlformats.org/officeDocument/2006/relationships/slide" Target="slide19.xml"/><Relationship Id="rId23" Type="http://schemas.openxmlformats.org/officeDocument/2006/relationships/slide" Target="slide20.xml"/><Relationship Id="rId24" Type="http://schemas.openxmlformats.org/officeDocument/2006/relationships/slide" Target="slide21.xml"/><Relationship Id="rId25" Type="http://schemas.openxmlformats.org/officeDocument/2006/relationships/slide" Target="slide22.xml"/><Relationship Id="rId26" Type="http://schemas.openxmlformats.org/officeDocument/2006/relationships/slide" Target="slide3.xml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Jad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explain what was happe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the wor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ere Greek gods and goddesses cre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6002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, Philosophy, Democracy, and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as Athens known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hrod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was the goddesses of love and pa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e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phases were there in the Peloponnesian W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god or godd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word De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8288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ing excellent fight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80880"/>
            <a:ext cx="914400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as Sparta known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was Zeus’ wif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exander was the son of K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illip.  He began to rule 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very young a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 expanded his emp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the way into As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was Alexander the Gre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noans and Myceanea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groups formed during Aegean times.  What were the names of these two grou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7524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l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GREEK work for city - st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9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0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0"/>
            <a:ext cx="198108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ty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0"/>
            <a:ext cx="20574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ds/ Godd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0"/>
            <a:ext cx="2209680" cy="109944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rojan War / Peloponnesian W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0"/>
            <a:ext cx="220968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x it UP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1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2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5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6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7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1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2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3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4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5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6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was the goddess of w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371600"/>
            <a:ext cx="7162560" cy="4038480"/>
          </a:xfrm>
          <a:prstGeom prst="wedgeRectCallout">
            <a:avLst>
              <a:gd name="adj1" fmla="val -21231"/>
              <a:gd name="adj2" fmla="val 738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eople from Greece m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p a plan to get into the 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Troy.  They hid inside a hor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attacked the city.  The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urned the city of Troy to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ound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the Trojan war finally e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6765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verseas trade STOPP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 one could wri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inting and artwork was 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nger being creat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was a time of wand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kil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04920"/>
            <a:ext cx="716292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Ancient Greek History there is a period of time called the “Dark Ages”.  During this period several BAD things happened.  Name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304920"/>
            <a:ext cx="81532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merigo BT"/>
              </a:rPr>
              <a:t>FINAL JEOPARDY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449568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eams make your final wagers!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38080" y="838080"/>
            <a:ext cx="7696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57680" y="914400"/>
            <a:ext cx="557280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Times New Roman"/>
              </a:rPr>
              <a:t>Explain the OLYMPICS!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Who could participate in the games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Where were the games held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What did the athletes need to do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o prepare for the games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838080"/>
            <a:ext cx="807696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ere three period of time during the Aegean and Ancient Greek civiliz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rly Period - This was when the Minoan and Myceanean civilizations develop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iddle Period - This is when the DARK AGE occur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assical Period - This is when Ancient Greece FLOURISHED and the city - states of Athens and Sparta were the most productive and success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h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par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re the names of the two most famous city sta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t. Olymp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id the main gods/ goddesses l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1371600"/>
            <a:ext cx="7162920" cy="4038480"/>
          </a:xfrm>
          <a:prstGeom prst="wedgeRectCallout">
            <a:avLst>
              <a:gd name="adj1" fmla="val -21231"/>
              <a:gd name="adj2" fmla="val -1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most beautiful woman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wor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0"/>
            <a:ext cx="8381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as the Trojan War fought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8288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Pal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60948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as at the center of each Minoan c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parate cities and the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rrou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eas in one count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3808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city - st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was the king of all g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4479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 Years Trea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as the treaty called that Athens and Sparta both signed BEFORE the Peloponneason w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Cecil County</cp:lastModifiedBy>
  <cp:lastPrinted>2001-01-31T16:21:13Z</cp:lastPrinted>
  <dcterms:modified xsi:type="dcterms:W3CDTF">2009-01-07T12:10:30Z</dcterms:modified>
  <cp:revision>66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